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6BF4-45C6-484C-8096-4D857EE0BF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8856-B8CC-44D2-A5E2-47CCE60AC78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206-4421-4144-951E-14078C2D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39B-24F4-4F5D-A76B-A667C85D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567CA-5EE5-45DF-AE56-10941993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CFF00-74E7-4425-A980-E7E5996A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4631F-C75F-42B0-86C4-B668F67B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61D81-05DB-4778-85DD-C4EE7CE9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8CDAA-1995-4152-AFEC-C1FC49C3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287B3-BE14-4494-BB5E-0B4858EB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C9EB6-201F-49D2-9B86-786D40DF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F1E92-4040-4205-9E66-3190160D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D46F2-FDF6-4AA8-B454-AA43758D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4E70A-45F2-42AC-97AD-9CCC00F4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C8E-DA84-45C5-8AA8-68A9C565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BA427-408F-449C-944C-6B91647B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2E0EE-AA7C-4BFE-BBFA-5E3C37B7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06937-9F3B-4751-AA6F-B337DC82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DAB7A-EC23-478A-B4BF-6D63ADAD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6A468-70A8-487B-A38E-8273EB91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2C56A-0D56-4365-9B0A-7298753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0BBE4-7095-4CD9-A961-CBD30DE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EA175-5330-46D0-A909-5A3C4914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D1DF4-C7B2-48E6-9EA0-94343E4A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D5183-7CB9-4C9B-866C-DC172D3F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8E2-DF3B-43F2-AE8A-3279B348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52623-534A-4212-B537-32431BF9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5C2487-D681-4700-9D83-2F97226C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796FA3-1B47-46F5-B69A-CB6248B4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EFB7B2-6595-49E4-863A-ED71C4EB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9816A6-FB58-4B1D-B4A1-91F8932D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611517-48A5-4216-BF59-A6100D0B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3FB15A-9FBF-45A6-BA10-ED78B077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0913FA-9B7A-4E47-A040-64373BC7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184A7B-0423-461C-BA5E-3704D150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20914B-6DE0-4264-BF27-0F9FAA2F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FCF6-C6CA-43E0-8BA7-3DADB483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B42F79-C678-4A9E-A80A-9FD78296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C5B83A-4AAF-41AE-8694-2D4115CA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4C8C5A-3FF1-4124-BA93-1A8666C7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602EE6-006B-4B84-8F75-8A439EBE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676E65-BD1A-4FBF-89BF-D335BF0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80D01F-3604-4E7E-A118-45522538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452A94-401A-4CC6-ACC8-AE5ACD64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554A18-4423-4B0F-9EA9-D7064C1E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725221-A5F1-498B-94DB-1B3A1A07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DC4AFD-7A71-4784-8659-A4A81626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DCFD-76B5-4BAC-9B5B-E889FEF2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C32FA6-A6A5-413D-A9BB-F0E324D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818AA9-827C-47D4-A523-BC8B1C61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746019-EEE5-433E-9E20-C426CF06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D3CED2-95C6-4DE8-ADBF-88C662A1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AD237C-3EBB-4DC5-9BE2-ACEBE291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4B9A89-0FDD-4A02-A766-C2763D41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310DBF-F510-4961-8259-A0FEBE07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9AC59D-8F09-4D46-B158-F77E8E85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93B528-4DC1-4F7A-9644-1BA365A3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233111-5196-4364-A860-96F8883B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DADE-F78C-4F8D-A391-7EAF5B95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43A1FD-542B-45F8-BE63-1DF8FD5D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9F3BCE-7609-41F2-8A0E-A7814797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5F528A-2226-4DDF-91C5-37B6D49A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2156AC-9796-4C38-9C0E-E1D0856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BD5DA2-CAC1-4F11-84F9-AFF5E81D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D32E52-6345-48B8-8ADE-E6E9AAEA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F1B69C-8E88-4800-A42A-1F44828B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0639A-2B35-4CB6-A002-D3EF7F2C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A92F0-901C-40D5-8396-B4B652F2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6832E-21E6-4D9C-B822-09446E7E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50E4-61B4-4D18-9F96-280B0AEA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8CC5C-884A-4159-9D8A-39784C89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3F0BD-59CE-4FC4-B25E-0D3D3711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5A484-DA7D-4FDE-8463-1D588A31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CB14F-047A-41F5-B9AC-2068C3DB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7E0C7-9CBB-4C12-89DB-FB67CE1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76C91-25E0-49D2-A54D-31D4E88C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5B9FA5-95A5-4994-ADD1-7CF05642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032A1-FC9F-4578-AEA1-3D561AD0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DAD11-2789-409D-B253-1949572A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7EFB2B-D4C7-4D07-BCE1-995AD0C9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5A46-72B7-4912-B431-863A1C38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64867D-02CC-446C-A7E3-45F7F25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94F414-47ED-41B2-9B90-BB19F9F9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EB083A-B896-4C86-9A84-9951D507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BBF33F-E05D-4F89-8B64-EBDBBA95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E645B6-EB4B-4F0C-A63B-21D69DE9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374EEE-1535-4D44-975B-533CF828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ABE85A-6026-4645-9EAC-F356054C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542D76-1EB9-4FDF-B573-4C2912F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F12192-AAE3-4242-BFAD-179DEEF5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A9A6B5-31A4-4316-884E-126021D9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1DC0-330A-46A3-A09D-96603AD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9D860E-CEA1-48FC-A0CD-72547C13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6A44D-9CE9-4DEC-B9C0-78CE7DC4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E5530-4EFB-429F-B6A6-41E43A61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A0882-E046-48EF-B168-2A5060EC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959BB-AE81-4175-9A0C-104C7CC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66680-3322-45B9-B9EA-B8617EA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3F348-ADFD-4096-86D2-EEEC109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E676A-0D6E-4000-869C-26A33A2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184578-AAB4-4969-A375-CD1B4AC1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8426A-68F1-4819-B8F0-D27EC1C3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73A2-611A-48D4-B099-7924FFB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FCF27-CD7F-469D-BF90-23D52857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A37D9-FE76-44F2-BB5B-2A0E5E4E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8CEBB-2402-4BBF-8E30-94E64135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1D055-21E2-49B2-9172-77C89F74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A8CCE-4347-4109-B9F8-FBC88895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87CF4-5F4C-45FD-8DE9-6C23CF62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8F2B6-4B4E-4D15-BE06-FC252F69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0D6C92-320C-4A2E-B662-52E258C2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8E485-55F3-4717-9355-F329C389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130CD-AD65-4FFE-A9B7-A26AFB11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297-A6A2-4C17-8841-CB992B92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F8FB-6E52-403B-A09C-67DAD4F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61E67-82E1-4E27-A922-4A46878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10339-A86B-4809-AD89-C8EED879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A35D0-A2CA-41F0-A971-CD41EA2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E0041-894C-4FFE-B0EA-4B1F3309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57696-2909-4D84-97FF-70933143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696AEB-5E69-4ED3-9F2A-92555A75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B0E082-1409-44B4-8DAA-96F94A3B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1238AE-BD13-499E-ACE6-E0631534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89CB805-CB34-445D-8E81-DAD57EB1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D863CFC-18C0-47E0-8889-95731E02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0D54-7F33-4A73-B0F1-592362FA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3C51AA2-BB59-40A3-8BEB-0D1C66B4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463BB78-0F42-4F8D-912A-0CEFAF30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0AE756-08C0-48B5-A122-9FF3C3B1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F8729D-45A8-4B12-A7AE-D2B04C13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CE9151-67B2-4E18-91DC-A4B29576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80B25A-7352-4283-BBD5-BCFC8F6E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EA8CA3F-1083-4FEF-B7E6-50C8C5B3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3D5FAAF-9978-460E-B408-CD626F25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233476-74A6-4824-8EB9-17612C40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2E51D8-D98F-4417-A125-BAB6D2C8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1B53-BCEC-447A-8321-CC4E78B6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916312-6891-4BA5-85E8-0C26DF18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76704C-4565-4DDF-BF84-167BF1AA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BAE8D3-A008-4D44-BB2B-38762BCA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D02827-E9EC-4C37-8C50-21C0F1FA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EFC7F0-1B4F-43E1-856A-B75C744F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B2007D-BA16-4A36-9835-96836BC3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3D5807-BDF9-436C-A49E-CB844FD2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B2CAC8-3D45-4FAD-80C4-5E77246E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25BB2C5-652A-47EE-A21E-4C1C7B98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F134D7D-52BB-49A2-8953-467207BF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A2E5-3E46-4213-BB1E-26F868AD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C483F5D-056D-4185-B20A-0F399DB2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C1B9B49-2D7C-4271-99EE-06D482D4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B6164E7-F9FA-4E78-A0A8-B5EE9CBA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C374CB-F433-42C7-AD04-46459380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19129F3-229F-490F-8AAC-7FC86723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E9880A-519C-449B-A73C-8D2F46A6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9B1EFE-48E1-47F3-BDE7-937F5F6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B5E781-B55C-4777-8487-258DC257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4546FE3-89B6-4B6E-AF90-82F5F762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34713A-65C7-489C-9D54-617DD4B3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3A55-AE01-49CE-BE5E-C1875EA0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0620ACF-F366-4A82-8390-0A607535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9D5007-2FF8-440B-B80D-0981D111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364C1-4C9A-4EFD-9907-54190F4E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16C54-7BED-4C06-9A5C-73B59954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3C367-9364-4C95-9074-7E117922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829ABB-6B0B-4A1A-92B9-9B34F0F1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FB0AD-8015-4EE8-9A5A-4FA00D29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4423C2-2FA0-41BC-B594-6CECD58E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B2529A-F8A0-4842-A230-665A2DE9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886BA-2B3B-46B6-A82D-AFF9819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33E0-DF1E-4F19-B136-EB37EEF6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29103-72F0-4A2E-9487-4934179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A11A4-3F82-4A7F-B5BC-897D655C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0209D-DD81-4E13-ABDE-934F3CFD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36889E1-3E73-45EB-A53D-65F97E31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522C51A-1FEE-47A3-880E-EF22689E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6D48A4F-B73B-4C89-8583-77B37209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8F4F91-C0D6-4573-B2ED-50272BDE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3F1ED91-795C-4FAB-BD52-02FD961C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953EE7-FFCF-4FBB-96E1-E617BF8F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86F1DA-03BB-4A4A-8780-BAC342E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5F73-C36E-4A48-901E-392A8EE2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16983AD-819E-4DFC-B140-841684B9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C1ED896-243A-4E89-9996-CDF4A780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7209427-9E4E-4742-9D9F-330D0726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0D8F32-AD11-4FC5-A4A2-88A926BB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DBF261-3935-448D-958E-95041801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CF3E66-E70C-473E-99A2-31DB0E10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03A1A7-EBCD-4269-BFFD-776AAC99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F841DB-ADE7-4395-8035-147626E9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B2587E-3035-4F62-9AB7-7A50AB91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9AD090-8C7C-48F0-9E20-3AFF8ED2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9826-D1BB-4207-9D2F-63E84AF8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B9A7A-503F-457B-B716-A29B8CC6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24DD03-CEA6-42E5-AFC8-B8F9C16B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15AAAB-B1B2-49FC-ACA1-8D110B6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17E23F-A5AB-4511-877F-5B745ED0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08947F-C471-407E-82FB-4ED3B53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E38D08-9402-4ED2-94A5-8FAE912D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EA5E50-447B-4B9D-9F0A-E26BF316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5553-7CA1-455F-8CBE-680F4FA2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511C-B629-446C-AC59-B0770455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414-7F71-4E5D-97FD-E65D0113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DA91-A7F5-4E53-95D1-BB85F832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5648-AA63-479E-ACEA-1F70E41F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864D-C147-4CB4-8EF6-796483F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B825-B1A4-49EB-9124-0967F2FC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51C2-E4A8-46B3-BF1D-64CA818A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FAE7-6436-4604-9977-BA22CFD7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B3B7-DF4C-41CD-B7C4-79E6F7B3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3658-0C95-4542-9A08-24E3CA92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1F03-EAA1-416F-9927-6AFD688B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9E819-8184-4F68-AC1C-48FA4A25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13A-7A94-45D2-AB57-C7185321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CA94-BDDC-4E33-8AB0-B174DF01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E3850-0839-4FD1-A19C-00B1C576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7E25-41DE-4597-AE1F-2E522A03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EEC9-8082-430E-834D-4854EDA3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37DB1-2811-4DD4-80C5-746E79B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D174-E700-46A0-9F9D-0AF4BAE3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28040-8362-478E-B877-403AE1AB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C5BD-392A-4BB8-B9A2-18874692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D1FD3-618C-42D0-975F-F055968B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306E7-9686-413D-A137-DCF9487B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AF2-4570-4BD0-8F80-E1299A5F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48EA-129E-4487-A05B-AFCEFC0A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399C1-8ADC-44C9-97B2-0A471CB4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BF73-E60A-44E1-A50D-9EEDDFB3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70901-8514-455F-94E4-2CCA9417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F4F8-966B-4653-8CFA-29A73631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5F484-6B30-46EF-A225-BB7E2ABB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B9CF0-8A35-4CF2-A3C3-18A06586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76EEA-1EDB-440B-9D5F-F48903C7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5B8A6-B750-4CB3-9BDD-DCCAE386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D58C-1101-46E7-8E55-BFCB7968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2AC-70BE-46C8-8023-22F7D881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E02FD-5854-4BB0-B0DE-4E3666F1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8935-7E7E-47F8-A40D-594885F1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7FECD-DE29-468D-925B-B6A426CB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68B95-D2C3-43F8-B2F3-79A81920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46ACA-7A5E-4E5B-BA60-E7EEA04C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57A83-4143-4487-9EE1-D4490DFD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32BF-7C04-4F43-9EA0-F87E1028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4123-2C70-4306-9039-05F37CC9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8A27-F96B-4837-8D52-6305E0A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79F59-6D7B-4081-A0B1-4E1BF20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196-8CBF-4638-B705-8453E2CF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5A03-E302-4B42-9830-F11C04BC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D0C45-ED1C-454E-990C-61B8DDD6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C0728-1AF8-4BF0-89E2-672D474E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C24B2-9C82-4FB0-9DAA-648B04C6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BE034-5290-4D86-95F7-F3803D11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E653-5F44-42B6-92AF-3E285DCC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3C384-B7A9-4692-8DF4-88894328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0DE44-C074-464B-8173-B404E54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25AE-787C-4D8F-A62A-87D0F9F9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52FBC-D765-42DB-8239-D1A8C8F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66A-873C-4069-BC97-17B6FF4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B48DA-7143-4B39-AD09-E3ABC0F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B59DB-D721-4116-A614-70AF083E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D0FC3-44B1-4360-9E23-79657158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259C9-C850-416C-9D69-07E1F436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77A60-C071-4A43-B41A-95DB7A7E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CBC70-CDF5-4DDE-A7BF-7E72A3DA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141A0-5B88-4BE2-AFA1-2F0E970F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5E6E4-C814-4DC2-982E-7EFBC5B3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D80B5-C45C-4293-B0D3-9BAF68E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A9D5D-43CA-4EFE-B369-02E830AD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8A7-96D2-4DF9-BDFC-149BBA2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5DF09-D604-4CBA-B09B-0B423A40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E7EE-3939-4D19-AE82-AC0F7CD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8C00A-8436-48F0-906A-96FA7A16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4508A-66D3-4876-A8D0-62343B7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25928-13A2-47DF-B6AD-47F1EEAC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5A9D8-25FB-4325-8793-753AEBF2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829F7-1B96-4FC6-999D-D670F530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CC265-FC9D-4975-BD2E-4F08A1C4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FEAC4-DF98-4F0E-AEED-0615FECC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C131A-272A-435F-8B18-2363C4CE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55FC-3B6D-4B1A-9349-F3F4AF99438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6EE9-DA71-49C5-9214-8EE1211C619E}" type="slidenum">
              <a:rPr b="1" lang="en-US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32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AE4F-8910-463F-B4A9-3B89D860DED8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3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3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DB7-E501-411E-BC7D-E534DE29A98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B9EA-2A57-440E-AC73-4E75705796B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ftr" idx="3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4BA1-8C54-49FE-9F91-D06B6C87CAB7}" type="slidenum">
              <a:rPr b="1" lang="en-US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5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926F-453C-4AC2-8094-037F2176C0AC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ftr" idx="4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B76E-35C7-43E4-B5ED-1FD25CB6E6E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3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4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9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0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1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8E5-1995-4CC2-9D3D-04A7B6875FA5}" type="slidenum">
              <a:rPr b="1" lang="en-US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8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53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BCE0-27E3-4FB5-8A50-2187E4086C3F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ftr" idx="5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5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CE08-BECB-4038-A966-DE7F32F4543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ftr" idx="5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F5D2-56AA-4E9B-A556-84511A78845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5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sldNum" idx="5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E849-0C18-4971-AB0E-D7118B89495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ftr" idx="6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92BC-D989-4263-BD58-70EEAE2C2F70}" type="slidenum">
              <a:rPr b="1" lang="en-US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0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64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sldNum" idx="65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1BE6-7148-4A6C-BAEC-67DC078905E4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ftr" idx="66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5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6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67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68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69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B74-ABBA-4901-A804-FBC8A98FEE2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2CC7-37E3-444E-9486-40C02C10265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5DC9-15C8-4D4E-AB6F-CD000C3A5D4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0A7C-696C-4D34-BF46-9F723559C84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0723-81BB-4096-9E7A-BF1AF795082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044C-86FE-49B2-B027-90EBF7D85F4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97FA-93CA-47C7-BFC0-24BDE3F0D15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03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404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5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6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07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408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09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0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411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412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3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414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231C-4BC5-4BC4-9B86-9E729F18247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Заголовок 1" descr=""/>
          <p:cNvPicPr/>
          <p:nvPr/>
        </p:nvPicPr>
        <p:blipFill>
          <a:blip r:embed="rId1"/>
          <a:stretch/>
        </p:blipFill>
        <p:spPr>
          <a:xfrm>
            <a:off x="907920" y="4237200"/>
            <a:ext cx="7785360" cy="209052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de by Rodion  Baranovsk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Заголовок 1" descr=""/>
          <p:cNvPicPr/>
          <p:nvPr/>
        </p:nvPicPr>
        <p:blipFill>
          <a:blip r:embed="rId1"/>
          <a:stretch/>
        </p:blipFill>
        <p:spPr>
          <a:xfrm>
            <a:off x="907920" y="4237200"/>
            <a:ext cx="7454880" cy="1699920"/>
          </a:xfrm>
          <a:prstGeom prst="rect">
            <a:avLst/>
          </a:prstGeom>
          <a:ln w="0">
            <a:noFill/>
          </a:ln>
        </p:spPr>
      </p:pic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914040" y="2835000"/>
            <a:ext cx="744372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Box 10"/>
          <p:cNvSpPr/>
          <p:nvPr/>
        </p:nvSpPr>
        <p:spPr>
          <a:xfrm>
            <a:off x="4857840" y="714240"/>
            <a:ext cx="428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바탕"/>
                <a:ea typeface="바탕"/>
              </a:rPr>
              <a:t>Edinburgh is the capital of Scotlan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78" name="Рисунок 11" descr="images (11).jpg"/>
          <p:cNvPicPr/>
          <p:nvPr/>
        </p:nvPicPr>
        <p:blipFill>
          <a:blip r:embed="rId1"/>
          <a:stretch/>
        </p:blipFill>
        <p:spPr>
          <a:xfrm>
            <a:off x="142920" y="3786120"/>
            <a:ext cx="3857760" cy="2928960"/>
          </a:xfrm>
          <a:prstGeom prst="rect">
            <a:avLst/>
          </a:prstGeom>
          <a:ln w="0">
            <a:noFill/>
          </a:ln>
        </p:spPr>
      </p:pic>
      <p:pic>
        <p:nvPicPr>
          <p:cNvPr id="1079" name="Рисунок 12" descr="images (12).jpg"/>
          <p:cNvPicPr/>
          <p:nvPr/>
        </p:nvPicPr>
        <p:blipFill>
          <a:blip r:embed="rId2"/>
          <a:stretch/>
        </p:blipFill>
        <p:spPr>
          <a:xfrm>
            <a:off x="142920" y="571680"/>
            <a:ext cx="38577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2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Box 6"/>
          <p:cNvSpPr/>
          <p:nvPr/>
        </p:nvSpPr>
        <p:spPr>
          <a:xfrm>
            <a:off x="190440" y="785880"/>
            <a:ext cx="88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750"/>
                </a:solidFill>
                <a:latin typeface="바탕"/>
                <a:ea typeface="바탕"/>
              </a:rPr>
              <a:t>467 060 people live in Edinburgh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81" name="Рисунок 9" descr="images (10).jpg"/>
          <p:cNvPicPr/>
          <p:nvPr/>
        </p:nvPicPr>
        <p:blipFill>
          <a:blip r:embed="rId1"/>
          <a:stretch/>
        </p:blipFill>
        <p:spPr>
          <a:xfrm>
            <a:off x="1571760" y="2357280"/>
            <a:ext cx="44020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Box 6"/>
          <p:cNvSpPr/>
          <p:nvPr/>
        </p:nvSpPr>
        <p:spPr>
          <a:xfrm>
            <a:off x="190440" y="785880"/>
            <a:ext cx="88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바탕"/>
                <a:ea typeface="바탕"/>
              </a:rPr>
              <a:t>Edinburgh is located on south shore of the bay Firth of Forth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83" name="Рисунок 7" descr="images (9).jpg"/>
          <p:cNvPicPr/>
          <p:nvPr/>
        </p:nvPicPr>
        <p:blipFill>
          <a:blip r:embed="rId1"/>
          <a:stretch/>
        </p:blipFill>
        <p:spPr>
          <a:xfrm>
            <a:off x="214200" y="271476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084" name="Рисунок 8" descr="загруженное.jpg"/>
          <p:cNvPicPr/>
          <p:nvPr/>
        </p:nvPicPr>
        <p:blipFill>
          <a:blip r:embed="rId2"/>
          <a:stretch/>
        </p:blipFill>
        <p:spPr>
          <a:xfrm>
            <a:off x="4714920" y="27147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bb8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Box 3"/>
          <p:cNvSpPr/>
          <p:nvPr/>
        </p:nvSpPr>
        <p:spPr>
          <a:xfrm>
            <a:off x="4714920" y="428760"/>
            <a:ext cx="442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바탕"/>
                <a:ea typeface="바탕"/>
              </a:rPr>
              <a:t>The main areas of Edinburgh are New town  and Old tow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86" name="Рисунок 4" descr="Old-Town-Edinburgh-500x375.jpg"/>
          <p:cNvPicPr/>
          <p:nvPr/>
        </p:nvPicPr>
        <p:blipFill>
          <a:blip r:embed="rId1"/>
          <a:stretch/>
        </p:blipFill>
        <p:spPr>
          <a:xfrm>
            <a:off x="0" y="3571920"/>
            <a:ext cx="4286160" cy="3286080"/>
          </a:xfrm>
          <a:prstGeom prst="rect">
            <a:avLst/>
          </a:prstGeom>
          <a:ln w="0">
            <a:noFill/>
          </a:ln>
        </p:spPr>
      </p:pic>
      <p:pic>
        <p:nvPicPr>
          <p:cNvPr id="1087" name="Рисунок 5" descr="00c4ekpd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2"/>
          <p:cNvSpPr/>
          <p:nvPr/>
        </p:nvSpPr>
        <p:spPr>
          <a:xfrm>
            <a:off x="428760" y="571680"/>
            <a:ext cx="84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바탕"/>
                <a:ea typeface="바탕"/>
              </a:rPr>
              <a:t>Edinburgh is famous for its museum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89" name="Рисунок 3" descr="images.jpg"/>
          <p:cNvPicPr/>
          <p:nvPr/>
        </p:nvPicPr>
        <p:blipFill>
          <a:blip r:embed="rId1"/>
          <a:stretch/>
        </p:blipFill>
        <p:spPr>
          <a:xfrm>
            <a:off x="0" y="2428920"/>
            <a:ext cx="2428920" cy="3497040"/>
          </a:xfrm>
          <a:prstGeom prst="rect">
            <a:avLst/>
          </a:prstGeom>
          <a:ln w="0">
            <a:noFill/>
          </a:ln>
        </p:spPr>
      </p:pic>
      <p:pic>
        <p:nvPicPr>
          <p:cNvPr id="1090" name="Рисунок 4" descr="images (1).jpg"/>
          <p:cNvPicPr/>
          <p:nvPr/>
        </p:nvPicPr>
        <p:blipFill>
          <a:blip r:embed="rId2"/>
          <a:stretch/>
        </p:blipFill>
        <p:spPr>
          <a:xfrm>
            <a:off x="2428920" y="2428920"/>
            <a:ext cx="2357280" cy="3500280"/>
          </a:xfrm>
          <a:prstGeom prst="rect">
            <a:avLst/>
          </a:prstGeom>
          <a:ln w="0">
            <a:noFill/>
          </a:ln>
        </p:spPr>
      </p:pic>
      <p:pic>
        <p:nvPicPr>
          <p:cNvPr id="1091" name="Рисунок 5" descr="images (2).jpg"/>
          <p:cNvPicPr/>
          <p:nvPr/>
        </p:nvPicPr>
        <p:blipFill>
          <a:blip r:embed="rId3"/>
          <a:stretch/>
        </p:blipFill>
        <p:spPr>
          <a:xfrm>
            <a:off x="4786200" y="2428920"/>
            <a:ext cx="2143080" cy="3500280"/>
          </a:xfrm>
          <a:prstGeom prst="rect">
            <a:avLst/>
          </a:prstGeom>
          <a:ln w="0">
            <a:noFill/>
          </a:ln>
        </p:spPr>
      </p:pic>
      <p:pic>
        <p:nvPicPr>
          <p:cNvPr id="1092" name="Рисунок 6" descr="images (3).jpg"/>
          <p:cNvPicPr/>
          <p:nvPr/>
        </p:nvPicPr>
        <p:blipFill>
          <a:blip r:embed="rId4"/>
          <a:stretch/>
        </p:blipFill>
        <p:spPr>
          <a:xfrm>
            <a:off x="6929280" y="2428920"/>
            <a:ext cx="2214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875a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4714920" y="857160"/>
            <a:ext cx="442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8f2d"/>
                </a:solidFill>
                <a:latin typeface="바탕"/>
                <a:ea typeface="바탕"/>
              </a:rPr>
              <a:t>The most famous museum of Edinburgh  is the Museum of Scotlan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94" name="Рисунок 2" descr="images (4).jpg"/>
          <p:cNvPicPr/>
          <p:nvPr/>
        </p:nvPicPr>
        <p:blipFill>
          <a:blip r:embed="rId1"/>
          <a:stretch/>
        </p:blipFill>
        <p:spPr>
          <a:xfrm>
            <a:off x="285840" y="3643200"/>
            <a:ext cx="4143240" cy="2784600"/>
          </a:xfrm>
          <a:prstGeom prst="rect">
            <a:avLst/>
          </a:prstGeom>
          <a:ln w="0">
            <a:noFill/>
          </a:ln>
        </p:spPr>
      </p:pic>
      <p:pic>
        <p:nvPicPr>
          <p:cNvPr id="1095" name="Рисунок 3" descr="images (5).jpg"/>
          <p:cNvPicPr/>
          <p:nvPr/>
        </p:nvPicPr>
        <p:blipFill>
          <a:blip r:embed="rId2"/>
          <a:stretch/>
        </p:blipFill>
        <p:spPr>
          <a:xfrm>
            <a:off x="285840" y="285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Box 1"/>
          <p:cNvSpPr/>
          <p:nvPr/>
        </p:nvSpPr>
        <p:spPr>
          <a:xfrm>
            <a:off x="714240" y="8571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바탕"/>
                <a:ea typeface="바탕"/>
              </a:rPr>
              <a:t>National Gallery of Scotlan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97" name="Рисунок 2" descr="images (6).jpg"/>
          <p:cNvPicPr/>
          <p:nvPr/>
        </p:nvPicPr>
        <p:blipFill>
          <a:blip r:embed="rId1"/>
          <a:stretch/>
        </p:blipFill>
        <p:spPr>
          <a:xfrm>
            <a:off x="357120" y="250020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1098" name="Рисунок 3" descr="images (7).jpg"/>
          <p:cNvPicPr/>
          <p:nvPr/>
        </p:nvPicPr>
        <p:blipFill>
          <a:blip r:embed="rId2"/>
          <a:stretch/>
        </p:blipFill>
        <p:spPr>
          <a:xfrm>
            <a:off x="4286160" y="2500200"/>
            <a:ext cx="46735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Рисунок 1" descr="University_of_Edinburgh_logo.png"/>
          <p:cNvPicPr/>
          <p:nvPr/>
        </p:nvPicPr>
        <p:blipFill>
          <a:blip r:embed="rId1"/>
          <a:stretch/>
        </p:blipFill>
        <p:spPr>
          <a:xfrm>
            <a:off x="428760" y="2928960"/>
            <a:ext cx="3511440" cy="2857320"/>
          </a:xfrm>
          <a:prstGeom prst="rect">
            <a:avLst/>
          </a:prstGeom>
          <a:ln w="0">
            <a:noFill/>
          </a:ln>
        </p:spPr>
      </p:pic>
      <p:sp>
        <p:nvSpPr>
          <p:cNvPr id="1100" name="TextBox 2"/>
          <p:cNvSpPr/>
          <p:nvPr/>
        </p:nvSpPr>
        <p:spPr>
          <a:xfrm>
            <a:off x="571680" y="71424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바탕"/>
                <a:ea typeface="바탕"/>
              </a:rPr>
              <a:t>University of Edinburg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01" name="Рисунок 3" descr="images (8).jpg"/>
          <p:cNvPicPr/>
          <p:nvPr/>
        </p:nvPicPr>
        <p:blipFill>
          <a:blip r:embed="rId2"/>
          <a:stretch/>
        </p:blipFill>
        <p:spPr>
          <a:xfrm>
            <a:off x="4357800" y="3000240"/>
            <a:ext cx="4100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21:00:02Z</dcterms:created>
  <dc:creator>Родиоша</dc:creator>
  <dc:description/>
  <dc:language>en-US</dc:language>
  <cp:lastModifiedBy>Vovan</cp:lastModifiedBy>
  <dcterms:modified xsi:type="dcterms:W3CDTF">2012-05-09T15:12:49Z</dcterms:modified>
  <cp:revision>22</cp:revision>
  <dc:subject/>
  <dc:title>Слайд 1</dc:title>
</cp:coreProperties>
</file>